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D927-33D6-41EF-A267-DB19B5D61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A26F-BE4F-411A-9C30-6C87DD06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1AB4A6-CA66-42C7-89D7-0FC0FCEB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232AB5-C863-456F-8CBE-44374A79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0D5970-9B38-4D69-9931-3FD4FD46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DF3AD5-270C-41AA-A50D-795853F2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2D7168-FA2C-413C-BCC9-21FAF6DB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820958-F409-40D1-A5F8-DADA8937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551E33-4DD3-467B-A5F7-8A09304D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40F721-2A98-484A-B9CA-C14437178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17E87F-605E-4667-AB83-0842B94E0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DE2FD4-9CB5-481A-9527-B8AFE019F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9437-E3D0-4640-871C-00672FA62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D85660-6E49-4634-A8E5-B80CC1E3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CE9B95-DE02-4E2A-84E9-B0754A1C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D9C30C-875A-412C-8E4F-B49D17CC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7A0BDE-F2CC-4ADD-9D8D-640BA152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CBDDAC-A6CA-4D3B-84D3-F8C1A5A4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BE3171-FD5D-459F-8766-BEC1F20A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A39A13-9A47-4A05-A9A7-EB66C0C7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8192CD-C1F3-4B40-B4C5-E07ED2F9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19C5A4-4052-4755-BB83-DF149D16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FA9A92-3C48-45D3-ADCB-39380B2D6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22A4-9DFA-495B-9300-8F1146260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B70398-5927-4589-A34F-D94BBEB98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3EAFC8D-9D5B-4F34-9050-86742D4A0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24BDBD3-FF36-4BA4-8C13-D15BB2FC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4DE6447-21AA-4881-BC6F-BCD24208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3CEAFED-7333-460C-BF55-B69B407E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CA01C93-F893-4388-AB5C-28C25A10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2A374C6-1AB9-4329-A04B-A2DC3F1E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B6EB354-B9BC-4768-9A3D-45573E2C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E81DCF2-38A1-4AD3-BDF4-D1CC1540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0CF59BE-8BA5-463F-8EC4-EBD4BEE1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F2B6-20EE-4828-8DFF-549AA1EBC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1114D46-EBBE-4CF1-BADF-9ACFB2EF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7EA64DB-E3E8-47DB-A067-655A2FCEF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C4BA08D-3DD0-4D92-857E-2C8BAE3D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EEEE-91A0-4995-BCC1-06FA2CCB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081F-7CB5-42A7-8B6E-E7E5D540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6FDF-CFF3-4918-B4A9-408D3C33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34C1-3DBF-4F0B-914F-EFFB73FD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A2D2-EB52-472D-B3F4-94FE5FEB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279E-7481-4898-941E-921C817B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D474-8AA3-44EE-B4E4-AC311AB5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4147-1F1A-4B57-80E3-D34F33EB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5B20-6476-4D57-9AC8-8D3EC3A4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326D-BE21-45D5-8F42-A80E65A2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1920-A393-4465-BDF6-0EA9D30BD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DC34-B5E2-4F6F-84A3-BB041EFA4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DE6D3-30BA-4784-A122-39BD61299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FFABB-8E7A-4550-B6DA-14B8E49E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C98A7-9CC8-4A01-9F9B-1E7A0AC1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39487-9DD6-4A41-8E89-1C2D6A15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C2721-4F3B-4EEA-A057-6C9BBC9D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FDBB-B63A-4DFC-B6DA-12611D70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C10D1-66BE-4EF6-8476-92F687AF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A7426-C4B9-43D1-A0E6-BD2FA8B2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43370-740F-4954-BF0D-0165660D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02169-355A-46E1-BA02-24907665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908C6-CA13-4C44-8C4A-210A1842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DC445-ECE5-40DD-BA05-8AD0FDDF9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E19E6-A455-478A-96AA-1A9FF562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A9CFA-F189-42A5-9ACB-855C95519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E5291-DC9F-4AAB-BF3F-EA8A28D7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9E960-E8F5-4639-82E7-D27B9A57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654F-CBC5-45A7-ADAC-C0FC809E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4D814-11CB-43D8-8033-0890C63E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F2F2F-5444-426E-A124-92347839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9A43B-C182-4EEF-BB00-33E080A7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92D24-4A24-484A-ADA4-F708DF40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686BB-6802-47E4-BA71-C9ADE30A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F8B2A-29EE-4A28-8488-75EE6062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3D28E-833B-4D54-A292-6A120B15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7363D-51E6-44FB-ABAA-63B0BB683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7014B-2D16-40FF-947F-595C0C529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80F1A-A2F0-4179-AB55-CBADE8222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709B-EED8-478F-957A-60A64AA9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36D0A-F3B5-41E8-A5D3-0C8549EC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5FE28-D0EE-4370-94DC-CAFD6E04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70707-3197-44A2-9145-672D4473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558BC-3AC4-4706-B92A-3AA64359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D76B8-340A-4F70-BF38-1BFC1306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44D6D-943E-4CDD-AC25-52CE03E4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F45A5-C353-4508-B417-CB494F65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0020D-3F96-4D2E-ACEC-75801FA8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F80CF-5A92-49B4-A9EF-2CA30151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EBF5D-29E4-4211-B951-3DE8E88A5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0DC6-CE57-41ED-8E5E-B3338381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D5938-82C0-40A1-8658-1C08960FD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E9440-339C-4459-9CA2-8EBAE6783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25E1E-2743-4589-8789-0ACC6625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AD80D-D57A-4B92-9F2D-28754A45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D6328-0876-4E20-92D0-B9CCFA41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6F6B5-078B-4451-BD74-16D62B41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4F9BC-1349-4CB4-95D9-DB01FD10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05CAF-429A-4A45-8D3D-87CEF75B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ADD44-9CD5-440A-BCFB-781B169A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CECAE-FE91-4582-8C48-70B67B71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1C34-F71A-4331-BE09-EB5C089F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B7149-DF51-4DD8-8C81-F0C70BF7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BCD76-DEB7-41C6-87EB-B9850F757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98910-E868-439B-BF1E-BFD261085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7F928-CE99-4C90-A862-CFB47C4CF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39D6B-A06E-4568-A682-C00FD73E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DFA86-74BB-48DA-8D6D-095C4216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C8B68-C66E-4A52-B0D2-6295CF81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43F9C-C7C8-41B2-ADE6-2B9E9B18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17DBD-AA55-4B96-8040-D68C829A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46F02-EDC0-499E-85B3-EFB5BC6A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0C18-285D-4466-8643-06F46B86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A83C2-5E1D-4975-A773-50BAEC1B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A7424-6496-4600-B826-8C22BF12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29D50-59BA-4CF0-89BB-B6F9D5E4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D247A-DAF8-4265-BB03-37BB81720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CF8B9-D873-4488-881E-6D2078E04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81D50-577A-4A69-AFC0-105CF26D6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59A0F-7733-4234-B5AC-2480260A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5464C-07CE-4602-B404-B7CD8981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13488-8060-40E5-9D2D-FD5FC225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CF236-7F35-4F2D-8D2C-B1788E9B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D55D-1BF6-4949-8DE0-AC59D78E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88C17-EE43-46FE-A7C9-E2D8D729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C56AC-240A-4FA4-957F-619DD7A8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0D739-C02D-4CA5-94A5-D40CA355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9684D-2CFB-45CE-A743-A5E349C7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8081D-C7FF-4328-954B-94892014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0D6DA-4640-4EAE-88FB-7C73E2B9D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F35C7-0F7C-4D48-957A-76AC29AD1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E27638-A09D-4A73-8D89-34A0E2F11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6F409B-0A28-48D2-A58F-83996EAE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2DF3B1-D6EE-4DA0-A5F3-6C7D362C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e7c5c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A8A5-A1A8-4AE3-B8DF-7C7CA19CB8AD}" type="slidenum">
              <a:rPr b="0" lang="en-US" sz="1600" spc="-1" strike="noStrike">
                <a:solidFill>
                  <a:srgbClr val="8e7c5c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e7c5c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F2D5-41A2-476B-9991-E9C5680AF491}" type="slidenum">
              <a:rPr b="0" lang="en-US" sz="1600" spc="-1" strike="noStrike">
                <a:solidFill>
                  <a:srgbClr val="8e7c5c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31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e7c5c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0ED1-953B-4FDF-8639-35C9899DCA9B}" type="slidenum">
              <a:rPr b="0" lang="en-US" sz="1600" spc="-1" strike="noStrike">
                <a:solidFill>
                  <a:srgbClr val="8e7c5c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dt" idx="3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3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e7c5c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578E-1A7F-404C-9E90-DFA4B88380FD}" type="slidenum">
              <a:rPr b="0" lang="en-US" sz="1600" spc="-1" strike="noStrike">
                <a:solidFill>
                  <a:srgbClr val="8e7c5c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e7c5c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71AD-ABC4-4A93-8E7F-F43EA6784CC5}" type="slidenum">
              <a:rPr b="0" lang="en-US" sz="1600" spc="-1" strike="noStrike">
                <a:solidFill>
                  <a:srgbClr val="8e7c5c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e7c5c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C469-43BC-421F-B426-FC75381EFE7B}" type="slidenum">
              <a:rPr b="0" lang="en-US" sz="1600" spc="-1" strike="noStrike">
                <a:solidFill>
                  <a:srgbClr val="8e7c5c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e9e5d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e7c5c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3730-5087-4448-8E37-1BBF0A622359}" type="slidenum">
              <a:rPr b="0" lang="en-US" sz="1600" spc="-1" strike="noStrike">
                <a:solidFill>
                  <a:srgbClr val="8e7c5c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e9e5d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e7c5c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5549-ACA8-43CB-A212-064D269E6D1B}" type="slidenum">
              <a:rPr b="0" lang="en-US" sz="1600" spc="-1" strike="noStrike">
                <a:solidFill>
                  <a:srgbClr val="8e7c5c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e7c5c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F502-D908-49AB-9108-0FDDA036988F}" type="slidenum">
              <a:rPr b="0" lang="en-US" sz="1600" spc="-1" strike="noStrike">
                <a:solidFill>
                  <a:srgbClr val="8e7c5c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E45D-1208-4545-9D0B-70A2C37B4068}" type="slidenum">
              <a:rPr b="0" lang="en-US" sz="16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e7c5c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2544-2A9A-425B-B43E-7F6CC96451DA}" type="slidenum">
              <a:rPr b="0" lang="en-US" sz="1600" spc="-1" strike="noStrike">
                <a:solidFill>
                  <a:srgbClr val="8e7c5c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M6blsMhPRQ&amp;feature=related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tcapstone.wikispaces.com/" TargetMode="External"/><Relationship Id="rId2" Type="http://schemas.openxmlformats.org/officeDocument/2006/relationships/hyperlink" Target="http://stcapstone.wikispaces.com/" TargetMode="External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9e5dc"/>
                </a:solidFill>
                <a:latin typeface="Cambria"/>
              </a:rPr>
              <a:t>LEA CALVERT EVERING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9e5dc"/>
                </a:solidFill>
                <a:latin typeface="Cambria"/>
              </a:rPr>
              <a:t> </a:t>
            </a:r>
            <a:r>
              <a:rPr b="1" lang="en-US" sz="1600" spc="-1" strike="noStrike">
                <a:solidFill>
                  <a:srgbClr val="e9e5dc"/>
                </a:solidFill>
                <a:latin typeface="Cambria"/>
              </a:rPr>
              <a:t>INDIANA UNIVERSITY OF PENNSYLVANIA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d34817"/>
                </a:solidFill>
                <a:latin typeface="Calibri"/>
              </a:rPr>
              <a:t>Student Teaching: The Capstone Experience</a:t>
            </a:r>
            <a:endParaRPr b="0" lang="en-US" sz="4200" spc="-1" strike="noStrike">
              <a:solidFill>
                <a:srgbClr val="8e7c5c"/>
              </a:solidFill>
              <a:latin typeface="Calibri"/>
            </a:endParaRPr>
          </a:p>
        </p:txBody>
      </p:sp>
      <p:pic>
        <p:nvPicPr>
          <p:cNvPr id="558" name="Picture 3" descr="IUP logo.jpg"/>
          <p:cNvPicPr/>
          <p:nvPr/>
        </p:nvPicPr>
        <p:blipFill>
          <a:blip r:embed="rId1"/>
          <a:stretch/>
        </p:blipFill>
        <p:spPr>
          <a:xfrm>
            <a:off x="3124080" y="3809880"/>
            <a:ext cx="2971800" cy="2160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e7c5c"/>
                </a:solidFill>
                <a:latin typeface="Calibri"/>
              </a:rPr>
              <a:t>Making a Difference</a:t>
            </a:r>
            <a:endParaRPr b="0" lang="en-US" sz="48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9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A teacher affects eternity; he can never tell where his influence stops. ” ~Henry Brooks Adams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56320" indent="-256320">
              <a:spcBef>
                <a:spcPts val="9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9900"/>
                </a:solidFill>
                <a:uFillTx/>
                <a:latin typeface="Cambria"/>
                <a:hlinkClick r:id="rId1"/>
              </a:rPr>
              <a:t>Jaime Escalante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56320" indent="-256320">
              <a:spcBef>
                <a:spcPts val="9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mbria"/>
              </a:rPr>
              <a:t>The Dot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56320" indent="-256320">
              <a:spcBef>
                <a:spcPts val="9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A blast from my past: Facebook example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e7c5c"/>
                </a:solidFill>
                <a:latin typeface="Calibri"/>
              </a:rPr>
              <a:t>Put your oxygen mask on first</a:t>
            </a:r>
            <a:endParaRPr b="0" lang="en-US" sz="48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Take care of yourself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spcBef>
                <a:spcPts val="9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A well teacher teaches well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72880">
              <a:spcBef>
                <a:spcPts val="774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9e5dc"/>
                </a:solidFill>
                <a:latin typeface="Cambria"/>
              </a:rPr>
              <a:t>Get plenty of rest</a:t>
            </a:r>
            <a:endParaRPr b="0" lang="en-US" sz="3100" spc="-1" strike="noStrike">
              <a:solidFill>
                <a:srgbClr val="e9e5dc"/>
              </a:solidFill>
              <a:latin typeface="Cambria"/>
            </a:endParaRPr>
          </a:p>
          <a:p>
            <a:pPr lvl="1" marL="547560" indent="-272880">
              <a:spcBef>
                <a:spcPts val="774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9e5dc"/>
                </a:solidFill>
                <a:latin typeface="Cambria"/>
              </a:rPr>
              <a:t>Balance work and play</a:t>
            </a:r>
            <a:endParaRPr b="0" lang="en-US" sz="3100" spc="-1" strike="noStrike">
              <a:solidFill>
                <a:srgbClr val="e9e5dc"/>
              </a:solidFill>
              <a:latin typeface="Cambria"/>
            </a:endParaRPr>
          </a:p>
          <a:p>
            <a:pPr lvl="1" marL="547560" indent="-272880">
              <a:spcBef>
                <a:spcPts val="774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9e5dc"/>
                </a:solidFill>
                <a:latin typeface="Cambria"/>
              </a:rPr>
              <a:t>Vitamins; eat well</a:t>
            </a:r>
            <a:endParaRPr b="0" lang="en-US" sz="3100" spc="-1" strike="noStrike">
              <a:solidFill>
                <a:srgbClr val="e9e5dc"/>
              </a:solidFill>
              <a:latin typeface="Cambria"/>
            </a:endParaRPr>
          </a:p>
          <a:p>
            <a:pPr lvl="1" marL="547560" indent="-272880">
              <a:spcBef>
                <a:spcPts val="774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9e5dc"/>
                </a:solidFill>
                <a:latin typeface="Cambria"/>
              </a:rPr>
              <a:t>Excercise</a:t>
            </a:r>
            <a:endParaRPr b="0" lang="en-US" sz="3100" spc="-1" strike="noStrike">
              <a:solidFill>
                <a:srgbClr val="e9e5dc"/>
              </a:solidFill>
              <a:latin typeface="Cambria"/>
            </a:endParaRPr>
          </a:p>
          <a:p>
            <a:pPr lvl="1" marL="547560" indent="-272880">
              <a:spcBef>
                <a:spcPts val="774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9e5dc"/>
                </a:solidFill>
                <a:latin typeface="Cambria"/>
              </a:rPr>
              <a:t>FREQUENT HANDWASHING!!! </a:t>
            </a:r>
            <a:endParaRPr b="0" lang="en-US" sz="3100" spc="-1" strike="noStrike">
              <a:solidFill>
                <a:srgbClr val="e9e5dc"/>
              </a:solidFill>
              <a:latin typeface="Cambria"/>
            </a:endParaRPr>
          </a:p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e7c5c"/>
                </a:solidFill>
                <a:latin typeface="Calibri"/>
              </a:rPr>
              <a:t>Brain Matters</a:t>
            </a:r>
            <a:endParaRPr b="0" lang="en-US" sz="48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Age + 2 minutes = maximum amount to take in before break to process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Brain is shaped by experiences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Exercise  promotes thinking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leep is a must; need downtime to process information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Timing and feedback is important for reinforcement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elf regulation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e7c5c"/>
                </a:solidFill>
                <a:latin typeface="Calibri"/>
              </a:rPr>
              <a:t>Build a better brain</a:t>
            </a:r>
            <a:endParaRPr b="0" lang="en-US" sz="48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Students retain information that is 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72880">
              <a:spcBef>
                <a:spcPts val="601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e5dc"/>
                </a:solidFill>
                <a:latin typeface="Cambria"/>
              </a:rPr>
              <a:t>Personally meaningful</a:t>
            </a:r>
            <a:endParaRPr b="0" lang="en-US" sz="2400" spc="-1" strike="noStrike">
              <a:solidFill>
                <a:srgbClr val="e9e5dc"/>
              </a:solidFill>
              <a:latin typeface="Cambria"/>
            </a:endParaRPr>
          </a:p>
          <a:p>
            <a:pPr lvl="1" marL="547560" indent="-272880">
              <a:spcBef>
                <a:spcPts val="601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e5dc"/>
                </a:solidFill>
                <a:latin typeface="Cambria"/>
              </a:rPr>
              <a:t>Presented with a multisensory approach</a:t>
            </a:r>
            <a:endParaRPr b="0" lang="en-US" sz="2400" spc="-1" strike="noStrike">
              <a:solidFill>
                <a:srgbClr val="e9e5dc"/>
              </a:solidFill>
              <a:latin typeface="Cambria"/>
            </a:endParaRPr>
          </a:p>
          <a:p>
            <a:pPr lvl="1" marL="547560" indent="-272880">
              <a:spcBef>
                <a:spcPts val="550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e5dc"/>
                </a:solidFill>
                <a:latin typeface="Cambria"/>
              </a:rPr>
              <a:t>Organized </a:t>
            </a:r>
            <a:r>
              <a:rPr b="0" lang="en-US" sz="2200" spc="-1" strike="noStrike">
                <a:solidFill>
                  <a:srgbClr val="e9e5dc"/>
                </a:solidFill>
                <a:latin typeface="Cambria"/>
              </a:rPr>
              <a:t>with visual representations, patterns</a:t>
            </a:r>
            <a:endParaRPr b="0" lang="en-US" sz="2200" spc="-1" strike="noStrike">
              <a:solidFill>
                <a:srgbClr val="e9e5dc"/>
              </a:solidFill>
              <a:latin typeface="Cambria"/>
            </a:endParaRPr>
          </a:p>
          <a:p>
            <a:pPr marL="272880" indent="-272880">
              <a:spcBef>
                <a:spcPts val="9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Brain compatible learning strategies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72880">
              <a:spcBef>
                <a:spcPts val="601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e5dc"/>
                </a:solidFill>
                <a:latin typeface="Cambria"/>
              </a:rPr>
              <a:t>Novel; capture curiosity</a:t>
            </a:r>
            <a:endParaRPr b="0" lang="en-US" sz="2400" spc="-1" strike="noStrike">
              <a:solidFill>
                <a:srgbClr val="e9e5dc"/>
              </a:solidFill>
              <a:latin typeface="Cambria"/>
            </a:endParaRPr>
          </a:p>
          <a:p>
            <a:pPr lvl="1" marL="547560" indent="-272880">
              <a:spcBef>
                <a:spcPts val="601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e5dc"/>
                </a:solidFill>
                <a:latin typeface="Cambria"/>
              </a:rPr>
              <a:t>Emotion or motivation</a:t>
            </a:r>
            <a:endParaRPr b="0" lang="en-US" sz="2400" spc="-1" strike="noStrike">
              <a:solidFill>
                <a:srgbClr val="e9e5dc"/>
              </a:solidFill>
              <a:latin typeface="Cambria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9900"/>
                </a:solidFill>
                <a:uFillTx/>
                <a:latin typeface="Calibri"/>
                <a:hlinkClick r:id="rId1"/>
              </a:rPr>
              <a:t>Capstone Wiki</a:t>
            </a:r>
            <a:endParaRPr b="0" lang="en-US" sz="48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301320" y="1527120"/>
            <a:ext cx="850428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Hub for information and discussion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72880">
              <a:spcBef>
                <a:spcPts val="601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Cambria"/>
                <a:hlinkClick r:id="rId2"/>
              </a:rPr>
              <a:t>http://stcapstone.wikispaces.com/</a:t>
            </a:r>
            <a:endParaRPr b="0" lang="en-US" sz="2400" spc="-1" strike="noStrike">
              <a:solidFill>
                <a:srgbClr val="e9e5dc"/>
              </a:solidFill>
              <a:latin typeface="Cambria"/>
            </a:endParaRPr>
          </a:p>
          <a:p>
            <a:pPr lvl="1" marL="547560" indent="-272880">
              <a:spcBef>
                <a:spcPts val="601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e5dc"/>
                </a:solidFill>
                <a:latin typeface="Cambria"/>
              </a:rPr>
              <a:t>Links to important forms &amp; useful resources</a:t>
            </a:r>
            <a:endParaRPr b="0" lang="en-US" sz="2400" spc="-1" strike="noStrike">
              <a:solidFill>
                <a:srgbClr val="e9e5dc"/>
              </a:solidFill>
              <a:latin typeface="Cambria"/>
            </a:endParaRPr>
          </a:p>
          <a:p>
            <a:pPr lvl="1" marL="547560" indent="-272880">
              <a:spcBef>
                <a:spcPts val="601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e5dc"/>
                </a:solidFill>
                <a:latin typeface="Cambria"/>
              </a:rPr>
              <a:t>Contribute resources</a:t>
            </a:r>
            <a:endParaRPr b="0" lang="en-US" sz="2400" spc="-1" strike="noStrike">
              <a:solidFill>
                <a:srgbClr val="e9e5dc"/>
              </a:solidFill>
              <a:latin typeface="Cambria"/>
            </a:endParaRPr>
          </a:p>
          <a:p>
            <a:pPr marL="272880" indent="-272880">
              <a:spcBef>
                <a:spcPts val="799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alendar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72880">
              <a:spcBef>
                <a:spcPts val="601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e5dc"/>
                </a:solidFill>
                <a:latin typeface="Cambria"/>
              </a:rPr>
              <a:t>Keep up with due dates; we will monitor and adjust; some dates are flexible, some are not</a:t>
            </a:r>
            <a:endParaRPr b="0" lang="en-US" sz="2400" spc="-1" strike="noStrike">
              <a:solidFill>
                <a:srgbClr val="e9e5dc"/>
              </a:solidFill>
              <a:latin typeface="Cambria"/>
            </a:endParaRPr>
          </a:p>
          <a:p>
            <a:pPr marL="272880" indent="-272880">
              <a:spcBef>
                <a:spcPts val="799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Discussion thread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72880">
              <a:spcBef>
                <a:spcPts val="601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e5dc"/>
                </a:solidFill>
                <a:latin typeface="Cambria"/>
              </a:rPr>
              <a:t>Post  and discuss weekly</a:t>
            </a:r>
            <a:endParaRPr b="0" lang="en-US" sz="2400" spc="-1" strike="noStrike">
              <a:solidFill>
                <a:srgbClr val="e9e5dc"/>
              </a:solidFill>
              <a:latin typeface="Cambria"/>
            </a:endParaRPr>
          </a:p>
          <a:p>
            <a:pPr lvl="1" marL="547560" indent="-272880">
              <a:spcBef>
                <a:spcPts val="601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e5dc"/>
                </a:solidFill>
                <a:latin typeface="Cambria"/>
              </a:rPr>
              <a:t>No  limit on threads! </a:t>
            </a:r>
            <a:endParaRPr b="0" lang="en-US" sz="2400" spc="-1" strike="noStrike">
              <a:solidFill>
                <a:srgbClr val="e9e5dc"/>
              </a:solidFill>
              <a:latin typeface="Cambria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e7c5c"/>
                </a:solidFill>
                <a:latin typeface="Calibri"/>
              </a:rPr>
              <a:t>Observations</a:t>
            </a:r>
            <a:endParaRPr b="0" lang="en-US" sz="48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7A88-14B4-48DF-BD01-90920F3C4BB4}" type="slidenum">
              <a:rPr b="0" lang="en-US" sz="1600" spc="-1" strike="noStrike">
                <a:solidFill>
                  <a:srgbClr val="8e7c5c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9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Weekly schedule of teaching due each Thursday evening (see Addendum handout)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64600" indent="-264600">
              <a:spcBef>
                <a:spcPts val="9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Lesson plans due for inspection at each visit. Use folder, not binder. 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64600" indent="-264600">
              <a:spcBef>
                <a:spcPts val="9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IUP format for all formal lessons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64600" indent="-264600">
              <a:spcBef>
                <a:spcPts val="9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Review observation forms so you will know what to expect. 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64600" indent="-264600">
              <a:spcBef>
                <a:spcPts val="9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e7c5c"/>
                </a:solidFill>
                <a:latin typeface="Calibri"/>
              </a:rPr>
              <a:t>Observation Expectations</a:t>
            </a:r>
            <a:endParaRPr b="0" lang="en-US" sz="48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3 total; 1 video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Very prepared; use notes if needed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Professional dress and demeanor; positive interactions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Clear introductory activity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H.O.T. questions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72880">
              <a:spcBef>
                <a:spcPts val="550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9e5dc"/>
                </a:solidFill>
                <a:latin typeface="Cambria"/>
              </a:rPr>
              <a:t>See Bloom’s Taxonomy handout </a:t>
            </a:r>
            <a:endParaRPr b="0" lang="en-US" sz="2200" spc="-1" strike="noStrike">
              <a:solidFill>
                <a:srgbClr val="e9e5dc"/>
              </a:solidFill>
              <a:latin typeface="Cambria"/>
            </a:endParaRPr>
          </a:p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Variety of participation structures over the semester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72880">
              <a:spcBef>
                <a:spcPts val="550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9e5dc"/>
                </a:solidFill>
                <a:latin typeface="Cambria"/>
              </a:rPr>
              <a:t>Not all whole class teaching</a:t>
            </a:r>
            <a:endParaRPr b="0" lang="en-US" sz="2200" spc="-1" strike="noStrike">
              <a:solidFill>
                <a:srgbClr val="e9e5dc"/>
              </a:solidFill>
              <a:latin typeface="Cambria"/>
            </a:endParaRPr>
          </a:p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Wrap up/closure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e7c5c"/>
                </a:solidFill>
                <a:latin typeface="Calibri"/>
              </a:rPr>
              <a:t>Feedback</a:t>
            </a:r>
            <a:endParaRPr b="0" lang="en-US" sz="4800" spc="-1" strike="noStrike">
              <a:solidFill>
                <a:srgbClr val="8e7c5c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4047-C9D8-4056-9C06-CF289B285739}" type="slidenum">
              <a:rPr b="0" lang="en-US" sz="1600" spc="-1" strike="noStrike">
                <a:solidFill>
                  <a:srgbClr val="8e7c5c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Post-lesson reflection for all formally evaluated lessons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spcBef>
                <a:spcPts val="799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I will give feedback in person or via email within 24 hours.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72880">
              <a:spcBef>
                <a:spcPts val="601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e5dc"/>
                </a:solidFill>
                <a:latin typeface="Cambria"/>
              </a:rPr>
              <a:t>Triplicate form or email form</a:t>
            </a:r>
            <a:endParaRPr b="0" lang="en-US" sz="2400" spc="-1" strike="noStrike">
              <a:solidFill>
                <a:srgbClr val="e9e5dc"/>
              </a:solidFill>
              <a:latin typeface="Cambria"/>
            </a:endParaRPr>
          </a:p>
          <a:p>
            <a:pPr marL="272880" indent="-272880">
              <a:spcBef>
                <a:spcPts val="799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Midterm and Final conferences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spcBef>
                <a:spcPts val="799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Always work to improve upon the last lesson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spcBef>
                <a:spcPts val="799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spcBef>
                <a:spcPts val="799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6:30:07Z</dcterms:created>
  <dc:creator>Lea Calvert Evering</dc:creator>
  <dc:description/>
  <dc:language>en-US</dc:language>
  <cp:lastModifiedBy>Lea Calvert Evering</cp:lastModifiedBy>
  <dcterms:modified xsi:type="dcterms:W3CDTF">2011-04-19T18:17:46Z</dcterms:modified>
  <cp:revision>2</cp:revision>
  <dc:subject/>
  <dc:title>Student Teaching: The Capstone Experience</dc:title>
</cp:coreProperties>
</file>